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28DA-4735-4246-8C4B-27536FFF2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3EDA-9B2F-4D07-93BE-7AC240761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FA96-E335-4BCE-9DAA-282697C51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1AEB-436A-457D-9075-01753B245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9446-0871-4344-8FBD-3952568B96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ED23-E7A2-48EE-9E8E-746524C30C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E751-7388-4AB8-A83D-07CC077AF4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B042-A984-4E69-BAAF-0340740BD6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5646-C6EF-450B-8016-BFA149F860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D49A-282D-4D7E-9721-FDB598F028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DDF6-033C-43E0-B037-FC96537715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3D1A-92F1-4454-A44E-13C5270A3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34C0E-26B6-4A4C-9857-B258A34326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80AB-5EDC-41E4-BC81-B1C69B2127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77DC-9390-4F26-8CA9-D7DCB77027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3892-89B6-4B2B-A7B5-211D32C8A8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8044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0451-19C3-4ACE-ADDE-2E6C7FE1E2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5605-940E-40EB-B70E-DDDBF30BC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A7AE-65F3-4FEB-9F6B-7413C41A3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A940-33C0-4E0B-B23E-844A9533F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0A15-19B1-4FC0-9F8C-1A31F1F0F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A387-91D8-4F60-B911-DCCC9CE5F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8044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8603-A664-463E-BF29-A73DC2FEF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8044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BF34-AF21-401B-BEEF-824E0F8EB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02D7-468E-412F-848F-836BAD584F71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FC7D-B8C6-4000-9185-675AF9B80C91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segen.co.uk/eng/wind/windspeed.htm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esson 2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ll about GI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(which stands for Geographic Information Systems)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2F2F-F79F-4E23-B3CB-E69DF2DD63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formation can be shared between utilities via a secure web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website uses a GIS to pinpoint the location of water mains, gas pipes, electricity cables and sewers as well as details of current and future work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llowing all the utilities to access this information means that all utilities can agree to carry out work at the same tim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igging up the road only once helps to minimise public disruption and saving time and money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867280" y="765000"/>
            <a:ext cx="2678400" cy="2111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724360" y="2997360"/>
            <a:ext cx="287352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C443-488E-44B6-B5CF-D38258FC8F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One more exampl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It’s a breeze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7BDD-0473-4C71-8B99-57504361A6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ind farms can provide a source of alternative energy but finding the right location for the turbines can be difficul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works for an energy company that is keen to investigate the use of wind turbines as an alternative way of generating pow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e is asked to work on a project to identify suitable sites for a new wind farm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location needs to balance environmental concerns with operational efficiency.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724360" y="1773360"/>
            <a:ext cx="303084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4562-35D2-45BC-8D5F-86C9C07B38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257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has followed the debate in the newspapers and knows that the effect of the turbines’ appearance on the landscape is a major concer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any other factors, however, also need to be considered when choosing a 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se include wind speed, wind direction, distance from the existing electrical grid system, access to the site, size of the site and the shape and profile of the lan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435640" y="1125360"/>
            <a:ext cx="3535200" cy="2721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156360" y="4064040"/>
            <a:ext cx="2592360" cy="23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02D2-6523-4699-AFD5-7D3E3B90C8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825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y inputting data from various sources regarding weather, civil and military airfields, telecommunications and environmental organisations, Dave begins to put together a case for the available sit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He still needs to take into account the height and spacing of the turbines so that they can produce the required amount of electricity balanced against their visual impact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32360" y="1052640"/>
            <a:ext cx="3913200" cy="2993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199200" y="4213440"/>
            <a:ext cx="1930320" cy="14554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nyone spy anything wrong with this map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9216-E364-4EA4-AF60-45F86035B7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t’s a breez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825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ave adds height data and information to produce a 3D model giving a virtual view of the site as it would appear from different directions, distances and perspectiv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enables him to focus on particular locations to check the turbines’ impact on the view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nformation Dave produces is used to support planning applications and to reassure local residents that the wind farm will cause minimal disruptio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788000" y="981000"/>
            <a:ext cx="412884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6BBC-0E03-46E3-B182-9613490D62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o find out if you could use a wind turbine on your hous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ASK YOUR PARENTS FIRS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Then go to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99ff"/>
                </a:solidFill>
                <a:uFillTx/>
                <a:latin typeface="Comic Sans MS"/>
                <a:hlinkClick r:id="rId4"/>
              </a:rPr>
              <a:t>http://www.segen.co.uk/eng/wind/windspeed.ht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Enter business type – residential, you name etc and press Lookup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If the answer is 5 or better still 5.5 m/s then your home is potentially a good place to put a small wind turbine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AF95-D8E4-44E3-AFFF-ADE2801604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Now for the worksheet and to work towards your homework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8CAE-35A9-46DD-93CD-7E1A5D6364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5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3B27-E450-45B0-A8E1-0CBE368FE3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53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B1CC-E75F-499A-8A14-E8A027A427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What is GIS? 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Introduction: 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Paper maps only tell us where a place is.  GIS uses digital maps and information to help us make decisions and solve problems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Hardware: 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GIS runs on mainframe computers, PCs, small PDAs or even mobile phones to organise information and map the results of investigation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2949480" cy="215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89F4-4C04-42A0-920D-D4BCB0C3FA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40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7807-F6D4-4711-AF0D-5C35BD4B5E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4360" y="771480"/>
            <a:ext cx="8064360" cy="551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6577-00A5-418D-9724-F24B5A3D04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Click on the  ‘i’ by Lockerford to find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Population - 2,00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small village to the west of Melches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It grew on the site of a ford that farmers used when bringing their cattle to Melchester market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Now seen as one of the most desirable and expensive places to live in the area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ots of commuters choose to live ther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atest flood information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Casualties – 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Evacuations - 100 peop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Estimated insurance claims - £ 50,00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27A0-A300-4B3D-B4D0-8684C9082E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1. Locker Valley Storage basi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525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Earth-moving equipment will dig out two large basins connected to the river by drainage channel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t times of high water, flood gates are opened allowing water to drain away from the river into the basins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Locker Valley meadows are home to many wetland bird species that will be disturbed during construction. However, long term the wildlife will benefi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173160" indent="-173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people of Lockerby are likely to be upset by all the noise from the earth moving machiner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5451480" y="981000"/>
            <a:ext cx="3584520" cy="4392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20163600">
            <a:off x="5651640" y="2997360"/>
            <a:ext cx="504720" cy="647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dc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BEC8-050F-40BF-909F-01E344E74B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aving gathered the inform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68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You will need to put in a scor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you cannot really do that until you know a bout ALL the site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ence the worksheet I hope you have open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148360" y="1125360"/>
            <a:ext cx="345600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1354-4D39-4032-9A2F-8CD7F2D67E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2. Locker Brook Relief Channel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5473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10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large drainage channel connecting the Locker Brook to the River Falm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t times of high water, a flood gate is opened which allows the floodwater to be safely diverted past west Melchest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No opposition whatsoever from local residents, although the nearby main road will need to be closed during constructio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Some high quality farmland to the south-west of Melchester will also be los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432480" y="981000"/>
            <a:ext cx="2459160" cy="3743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6877080" y="4365360"/>
            <a:ext cx="574560" cy="718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B786-522B-489F-AB0A-6F781425F8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3. Melchester drain by pas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83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otal Cost = £ 12.0 mill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large underground tunnel offering a more direct escape route for floodwater from the River Falm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t times of high water, the tunnel is opened diverting water from the meanders near the town centr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Little environmental impact but local residents concerned about possible damage to houses caused by tunnel excavation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6156360" y="907920"/>
            <a:ext cx="1919160" cy="2880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 flipV="1">
            <a:off x="7956720" y="2565000"/>
            <a:ext cx="792000" cy="142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A9B1-D6C3-485E-B1D1-9C6F3A5BE0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4. Falmer Ring Dyk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612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1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massive ringed embankment around the Falmer Levels which would allow floodwaters from the River Falmer and the River Dank to be held back, protecting all of Melchester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ould cause significant damage to the environment during construction due to the amount of earth that would need to be move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It is expected to fill only once every 200 year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People living in north Melchester are likely to be upset by the noise from all the earth moving machinery require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6459480" y="981000"/>
            <a:ext cx="237960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314B-1903-4215-A712-3E6B73945B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5 Swinford temporary basin 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83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Removable flood walls that can be mounted into place with relatively little warning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ffective with smaller floods but not high enough to cope with 100 year flood events such as that experienced in 2001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ittle environmental impac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ocal residents in Swinford are highly supportive of the proposal although the people of Melchester are concerned that it would merely divert floodwater downstream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6300720" y="1125360"/>
            <a:ext cx="2498760" cy="2808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H="1" flipV="1">
            <a:off x="8101080" y="2852280"/>
            <a:ext cx="287280" cy="136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D19B-314C-4AFB-AB0C-56907FA0B3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6. Bend Flood Wall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6121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otal Cost = £ 5.0 mill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 permanent flood wall made                            from local stone built to protect                 the village of Ben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It would also allow access to                          Bend and Narrowbridge during                         times of flood when the main                       road is blocke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ffective with smaller floods but not high enough to cope with 100 year flood events such as that experienced in 2001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ocal residents in Bend are highly supportive of the proposal although the Bridgefordshire Tourist Board is concerned that it will ruin the lovely scenic view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5508720" y="1052640"/>
            <a:ext cx="3330360" cy="2006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7092720" y="549360"/>
            <a:ext cx="647640" cy="13669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68F2-BDFE-457F-93CF-7272A3E35D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Softwar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GIS software is a set of computer ‘tools’ for collecting, storing, processing and displaying sets of information linked to places on maps. 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re are different types of GIS ‘tools’:  for instance, a GIS that analyses land use is different from a GIS that maps the quickest route to a fir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500720" y="1052640"/>
            <a:ext cx="4240080" cy="31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CDA4-9E9A-4128-8857-CD7312EAB0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96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Electronic maps and images: 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 essential component of any GIS is some kind of map or image of an area. This can be a digital map, satellite image or aerial photograph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Many GIS will use a full range of map data and images as a base to link information against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 maps are produced  either as raster or vector dat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50920" y="4005000"/>
            <a:ext cx="82087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Raster map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se are images made by a series of coloured dots on a screen (pixels), just like high quality digital photograph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aster maps can be thought of as ‘unintelligent’ as you can only obtain information that is visually represented on them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aster maps take up a lot of computer storage space but can be very useful as background maps to other information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5361120" y="765000"/>
            <a:ext cx="3531960" cy="2586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DC57-8755-4D38-B46A-3B6371E6EB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968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Comic Sans MS"/>
              </a:rPr>
              <a:t>Vector maps</a:t>
            </a: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Each vector map feature is recorded using XY coordinat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se may be a single point (like a trig point), lines (such as roads) or polygons (such as buildings or woods)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referenced features of vector maps make it possible for a GIS to link information from spreadsheets and databases to the map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Vector data is stored in themed layers such a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Roads, water, settlement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5003640" y="981000"/>
            <a:ext cx="3781440" cy="28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9EAC-47C5-42EE-A870-0B406C26E7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392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Comic Sans MS"/>
              </a:rPr>
              <a:t>Data: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It is easier to make sense of complicated spreadsheets and databases when they are linked to maps in a GI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It is estimated that over 80% of all data has some link to a geographic plac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Comic Sans MS"/>
              </a:rPr>
              <a:t>People:</a:t>
            </a: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e vital ingredient!  We need people who understand digital maps and databases and know how to use GIS to organise the data on map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ey can ask the right questions and produce new maps showing the results. 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is helps to plan the way we live and use our environment for the futur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796000" y="115920"/>
            <a:ext cx="3092400" cy="2274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5791320" y="2349360"/>
            <a:ext cx="310176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5796000" y="4594320"/>
            <a:ext cx="3079800" cy="22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1F19-EF36-4B03-AECB-92CFB98911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n example of how it wor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21000" y="422100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 Hole Story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723D-5DD3-42FF-8E8E-F94EBB34C8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vast networks of underground pipes supplying our water, electricity and gas are hidden from view, so how do we know where it’s safe to dig?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Louise works for a water authority to maintain the company's network of water mains and sewer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he uses a GIS to create a complete overview of the pipeline which helps her to monitor its condition and performanc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716360" y="1413000"/>
            <a:ext cx="37101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B4FF-567F-476E-B5A3-EC5D08A504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ole Sto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o minimise the risks involved in digging trenches, laying cables and other maintenance and building projects, utility companies must share their underground asset maps upon request with other organisation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GIS is built up of lots of different layers of information which users can Switch on and off depending on their need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572000" y="1052640"/>
            <a:ext cx="4092480" cy="32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A183-F218-4FA0-88AA-5A125529D1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21:00:19Z</dcterms:created>
  <dc:creator>Lindy</dc:creator>
  <dc:description/>
  <dc:language>en-US</dc:language>
  <cp:lastModifiedBy>Lindy</cp:lastModifiedBy>
  <dcterms:modified xsi:type="dcterms:W3CDTF">2009-09-08T23:24:24Z</dcterms:modified>
  <cp:revision>2</cp:revision>
  <dc:subject/>
  <dc:title>Lesson 2 All about G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